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A92D-2307-4EA9-AE8C-63B3322B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7220-4E09-4422-940D-03CE9720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53FD-714F-4580-9235-29968C66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5D5D-6748-48A8-81A7-8218101C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43DD-4A92-4A7A-B8D7-CBA85089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605-F2E5-4E33-8B28-8EBED22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828-E129-4454-8ECA-C1B4C724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1D0D-AE7D-43F8-81E6-420B481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74D-5022-446E-BCA7-CB937592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7964-74A2-4462-A6DE-E38F345A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A75-26E1-483F-ADC8-6E89914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4768-8C90-42AF-A151-25D62D7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5D3E-C284-44E5-9106-80BFAC4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F97A-C4C8-40B1-9CE7-680C475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895-E2DC-4855-8903-3C6C7C1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E4C9-C2B2-403D-AFE5-4B9C232F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72CA-A65E-4ABD-AAFD-21BE8D30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21EC-D66B-4B4D-AD64-2E8DC91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3DB2-003B-43F1-830D-86FC276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2FE8-ACE0-4E54-ACEC-1A3917C6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B152-D491-4E61-8E64-24B4068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0F88-C4C3-47F1-9992-FBB49C5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9B88-E313-4E16-B108-5D17DD5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164F-FD46-4ABE-BD18-DC2569D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E64-B199-4843-AD42-509E81C1E4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0026-432F-4F47-91CE-A83EF11364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4220640"/>
            <a:ext cx="6019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ставитель: ученик 10 класса Гришин Н.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lip_image013"/>
          <p:cNvPicPr/>
          <p:nvPr/>
        </p:nvPicPr>
        <p:blipFill>
          <a:blip r:embed="rId1"/>
          <a:stretch/>
        </p:blipFill>
        <p:spPr>
          <a:xfrm>
            <a:off x="1258920" y="4724280"/>
            <a:ext cx="1428840" cy="133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lip_image015"/>
          <p:cNvPicPr/>
          <p:nvPr/>
        </p:nvPicPr>
        <p:blipFill>
          <a:blip r:embed="rId2"/>
          <a:stretch/>
        </p:blipFill>
        <p:spPr>
          <a:xfrm>
            <a:off x="7020000" y="515772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t-byu"/>
          <p:cNvPicPr/>
          <p:nvPr/>
        </p:nvPicPr>
        <p:blipFill>
          <a:blip r:embed="rId3"/>
          <a:stretch/>
        </p:blipFill>
        <p:spPr>
          <a:xfrm>
            <a:off x="4284720" y="530064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WordArt 9"/>
          <p:cNvSpPr txBox="1"/>
          <p:nvPr/>
        </p:nvSpPr>
        <p:spPr>
          <a:xfrm>
            <a:off x="2268360" y="2637000"/>
            <a:ext cx="66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сокрыто в замерзшей во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24000" y="1628640"/>
            <a:ext cx="561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растут из испарений воды. Снежные кристаллы образуются, когда испарения воды конденсируются непосредственно в лёд, что случается в облаках. Снежинки возникают вследствие роста кристаллов. Самая основная форма кристаллического снега – шестиугольная призма. Шестиугольная призма может быть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пластин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или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столб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, что зависит от скорости роста поверхностей.</a:t>
            </a: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Рисунок 8" descr="Разновидности призм в зависимости от их роста"/>
          <p:cNvPicPr/>
          <p:nvPr/>
        </p:nvPicPr>
        <p:blipFill>
          <a:blip r:embed="rId1"/>
          <a:stretch/>
        </p:blipFill>
        <p:spPr>
          <a:xfrm>
            <a:off x="5292720" y="2565360"/>
            <a:ext cx="37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WordArt 6"/>
          <p:cNvSpPr txBox="1"/>
          <p:nvPr/>
        </p:nvSpPr>
        <p:spPr>
          <a:xfrm>
            <a:off x="468360" y="907920"/>
            <a:ext cx="828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чего сделан лед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снежин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Плотная масса льда обычно поликристаллическая, т.е. состоит из множества отдельных кристаллов. Иногда эти кристаллы можно различить в тающем льду. Тогда видно, что лед состоит как бы из "карандашиков", сросшихся вместе: шестигранные столбики параллельны друг другу и стоят торчком к поверхности воды; эти "карандашики" и есть кристаллики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roldjye"/>
          <p:cNvPicPr/>
          <p:nvPr/>
        </p:nvPicPr>
        <p:blipFill>
          <a:blip r:embed="rId1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lip_image034"/>
          <p:cNvPicPr/>
          <p:nvPr/>
        </p:nvPicPr>
        <p:blipFill>
          <a:blip r:embed="rId2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Объект WordArt 7"/>
          <p:cNvSpPr txBox="1"/>
          <p:nvPr/>
        </p:nvSpPr>
        <p:spPr>
          <a:xfrm>
            <a:off x="1835280" y="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чего сделан ле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4" descr="roldjye"/>
          <p:cNvPicPr/>
          <p:nvPr/>
        </p:nvPicPr>
        <p:blipFill>
          <a:blip r:embed="rId3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lip_image034"/>
          <p:cNvPicPr/>
          <p:nvPr/>
        </p:nvPicPr>
        <p:blipFill>
          <a:blip r:embed="rId4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57120" y="259920"/>
            <a:ext cx="4430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Очень опасны для растений весенние или осенние заморозки. Температура почвы и воздуха падает ниже нуля, подпочвенные воды и соки растений замерзают, образуя иголочки кристалликов льда. Эти острые иголки рвут нежные ткани растений, листья сморщиваются, чернеют, стебли и корни разру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lip_image005"/>
          <p:cNvPicPr/>
          <p:nvPr/>
        </p:nvPicPr>
        <p:blipFill>
          <a:blip r:embed="rId1"/>
          <a:stretch/>
        </p:blipFill>
        <p:spPr>
          <a:xfrm>
            <a:off x="5508720" y="476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lip_image007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844280"/>
            <a:ext cx="453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В словаре Ожегова определение такое: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НЕЙ - тонкий снежный слой, образующийся благодаря испарениям на охлаждающейся поверхности в холодные ночи.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К и ПОЧЕМУ он образу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pimg_236_1085"/>
          <p:cNvPicPr/>
          <p:nvPr/>
        </p:nvPicPr>
        <p:blipFill>
          <a:blip r:embed="rId1"/>
          <a:stretch/>
        </p:blipFill>
        <p:spPr>
          <a:xfrm>
            <a:off x="4284720" y="333360"/>
            <a:ext cx="2158920" cy="1946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lip_image011"/>
          <p:cNvPicPr/>
          <p:nvPr/>
        </p:nvPicPr>
        <p:blipFill>
          <a:blip r:embed="rId2"/>
          <a:stretch/>
        </p:blipFill>
        <p:spPr>
          <a:xfrm>
            <a:off x="6588000" y="119700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lip_image0567"/>
          <p:cNvPicPr/>
          <p:nvPr/>
        </p:nvPicPr>
        <p:blipFill>
          <a:blip r:embed="rId3"/>
          <a:srcRect l="0" t="656" r="0" b="656"/>
          <a:stretch/>
        </p:blipFill>
        <p:spPr>
          <a:xfrm>
            <a:off x="5796000" y="4221000"/>
            <a:ext cx="2208240" cy="2459160"/>
          </a:xfrm>
          <a:prstGeom prst="rect">
            <a:avLst/>
          </a:prstGeom>
          <a:ln w="0">
            <a:noFill/>
          </a:ln>
        </p:spPr>
      </p:pic>
      <p:sp>
        <p:nvSpPr>
          <p:cNvPr id="126" name="Объект WordArt 7"/>
          <p:cNvSpPr txBox="1"/>
          <p:nvPr/>
        </p:nvSpPr>
        <p:spPr>
          <a:xfrm>
            <a:off x="395280" y="620640"/>
            <a:ext cx="3514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что такое ине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3212640"/>
            <a:ext cx="8785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В жилом помещении в воздухе есть молекулы воды и любое окно в морозы будет холоднее стен. Влага из теплого воздуха попадает на холодное стекло и остается там в виде капелек воды, которые при сильных морозах превращаются в кристаллики льда. И вот, что еще интересно: иней никогда не образуется на тонких ветвистых предметах. А то, что осаждается на проводах, на ветках кустов и деревьев, называется - изморозь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pimg_234_1085"/>
          <p:cNvPicPr/>
          <p:nvPr/>
        </p:nvPicPr>
        <p:blipFill>
          <a:blip r:embed="rId1"/>
          <a:stretch/>
        </p:blipFill>
        <p:spPr>
          <a:xfrm>
            <a:off x="5364000" y="83664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pimg_235_1085"/>
          <p:cNvPicPr/>
          <p:nvPr/>
        </p:nvPicPr>
        <p:blipFill>
          <a:blip r:embed="rId2"/>
          <a:stretch/>
        </p:blipFill>
        <p:spPr>
          <a:xfrm>
            <a:off x="1258920" y="62064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75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92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- это кристаллы льда, точнее сростки простейших кристалликов льда - иголочек и пластинок. Снежинки образуются из перенасыщенного водяного пара. Центрами кристаллизации являются взвешенные в воздухе пылинки.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ъект WordArt 5"/>
          <p:cNvSpPr txBox="1"/>
          <p:nvPr/>
        </p:nvSpPr>
        <p:spPr>
          <a:xfrm>
            <a:off x="1619280" y="33336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снежинка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Объект WordArt 7"/>
          <p:cNvSpPr txBox="1"/>
          <p:nvPr/>
        </p:nvSpPr>
        <p:spPr>
          <a:xfrm>
            <a:off x="1258920" y="364500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Поле 8"/>
          <p:cNvSpPr/>
          <p:nvPr/>
        </p:nvSpPr>
        <p:spPr>
          <a:xfrm>
            <a:off x="755640" y="4581360"/>
            <a:ext cx="81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ногим, наверное, известно, что встретить в природе пару идентичных снежинок невозможно, но они могут быть очень похож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роение молекулы воды представляет собой тетраэдр (шестиугольник). Между лучами кристаллов возможны лишь углы 60 и 120 градусов. Впоследствии на вершинах этого шестиугольника оседают новые молекулы, образуя тем самым причудливые формы снежинок. В процессе перемещения в атмосфере, а также под воздействием перепада температур кристаллы могут частично подтаивать и снова замерзать, образуя смешанные формы узоров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WordArt 4"/>
          <p:cNvSpPr txBox="1"/>
          <p:nvPr/>
        </p:nvSpPr>
        <p:spPr>
          <a:xfrm>
            <a:off x="1476360" y="54936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инки,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ные кристаллы образуются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зо льд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ъект WordArt 4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Рисунок 5" descr="Кристаллическая структура льда"/>
          <p:cNvPicPr/>
          <p:nvPr/>
        </p:nvPicPr>
        <p:blipFill>
          <a:blip r:embed="rId1"/>
          <a:stretch/>
        </p:blipFill>
        <p:spPr>
          <a:xfrm>
            <a:off x="324000" y="2637000"/>
            <a:ext cx="254952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Поле 6"/>
          <p:cNvSpPr/>
          <p:nvPr/>
        </p:nvSpPr>
        <p:spPr>
          <a:xfrm>
            <a:off x="395280" y="4076640"/>
            <a:ext cx="806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руктура кристаллов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олекулы воды в кристалле льда формируют шестиугольную решётку. Красные шары – атомы кислорода. Серые палочки – атомы водорода. По два водорода на один кислород – Н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75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4:40:46Z</dcterms:created>
  <dc:creator>26091</dc:creator>
  <dc:description/>
  <dc:language>en-US</dc:language>
  <cp:lastModifiedBy>26091</cp:lastModifiedBy>
  <dcterms:modified xsi:type="dcterms:W3CDTF">2010-06-04T14:51:45Z</dcterms:modified>
  <cp:revision>58</cp:revision>
  <dc:subject/>
  <dc:title>Что сокрыто в замерзшей воде</dc:title>
</cp:coreProperties>
</file>